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A00-01BF-4BBA-A39C-DFB831C3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3E1-9C64-4E11-9F3A-FF65ECB7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1B3-C6D8-4411-8A9D-69A1B702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0CE-7694-4079-AE98-E0BB0CD7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BF1-2B9D-4C4A-B305-8F77F42A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65B-16EA-481D-8405-A320D9BF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5A9-9FAA-4566-8253-DB43EB4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90C-EFC6-470A-986B-7CCF3329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32B-63CA-44C1-AF11-9DAB8244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B21-E746-407F-9F8B-FD378F33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A09-E197-4339-B744-21634451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8E9-7607-4C4C-99D2-3B19B1BF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3C001-335E-4217-A91E-A85FD5EAC7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I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PARTES DAS PLA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97320" y="4500720"/>
            <a:ext cx="32637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TES DAS PLA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2519280"/>
            <a:ext cx="2963880" cy="341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16480" y="2340000"/>
            <a:ext cx="33242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TES DAS PLA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s principais partes de planta são: raiz, caule, folha, flor, fruto e semente. A seguir detalheramos cada uma das partes da plant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80360" y="4319640"/>
            <a:ext cx="2340000" cy="28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AÍ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é a parte responsável pela alimentação. É através da raiz que a planta absorve água, sais minerais e conduz matéria orgânica até o caule. Ela funciona também como "dispensa", guardando reservas de nutrientes. As raízes podem ser subterrâneas (sob o solo), aquáticas (submersas na água)ou aéreas(nem na terra, nem dentro da águ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64280" y="179280"/>
            <a:ext cx="319572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a espinha dorsal da planta, mantendo-a ereta. O caule tem várias denominações. Nas árvores, chama-se tronco; haste nas plantas rasteiras e tenras; estipe, nos coqueiros e palmeiras; e colmo, quando dividido em nós e entre-nós. O caule pode, ainda, ser chamado estolão, nas suculentas e trepadeiras e, quando modificado, é conhecido por rizoma, bulbo, gavinha ou espin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80000" y="233280"/>
            <a:ext cx="270036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OLH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folhas são responsáveis pela fotossíntese, respiração e transpiração, funções primordiais de um ser vivo do reino vegetal. Geralmente são constituídas de lâminas e pecíolo (cabinho que a une ao caule), e apresentam-se de várias formas; lineares, oblíquas, lanceoladas, etc. Uma folha pode ainda ser simples (só uma lâmina) ou composta. A distribuição no caule é normalmente, alternada, composta ou verticulada. Em alguns casos suprindo a planta, até que ela consiga produzir seu próprio alimento, ou servindo como proteção (assume a forma de espinhos), a folha para bem cumprir sua função deve estar viçosa, limpa e bem nutr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1520" y="179280"/>
            <a:ext cx="23288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a flor desabrocha significa que está pronta para reproduzir-se. Com a parte masculina (estames) e a feminina (pistilo ou estigma e ovário) perfeitamente estruturadas, os agentes da natureza conseguem depositar o pólen no estigma fecundando óvulo e ovários. Quando uma planta "dá flor", está em sua fase mais crítica, pois direciona toda a energia à esta ativ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89640" y="179280"/>
            <a:ext cx="332892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R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o ovário fecundado que incumbe-se de proteger a maior riqueza de uma planta, a semente, guardando-a em seu interior. Homens e animais que se alimentam dele, transportam sementes para outros locais, ampliando a proliferação das espé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4196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M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em reservas de alimento, para possibilitar que a planta germine e cresça até ter folhas e poder realizar a fotossíntese. Para brotar, algumas dividem-se em duas, como o feijão e a soja, outras se mantém inteiras, como o milho e o arroz. Sua função é de preservar a espécie, através da multiplicação seminal. Ligadas entre si, todas as partes da planta trabalham em um sincronismo perfeito. Assim, procure tratá-las com o devido cuidado, garantindo a vitalidade e o bom desenvolvimento de sua pla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0360" y="360360"/>
            <a:ext cx="3060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2:36:01Z</dcterms:created>
  <dc:creator/>
  <dc:description/>
  <dc:language>en-US</dc:language>
  <cp:lastModifiedBy/>
  <cp:revision>1</cp:revision>
  <dc:subject/>
  <dc:title/>
</cp:coreProperties>
</file>